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767-83AE-4C0B-B112-00D7B1DC4B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58A-647C-4911-BD0A-2B736E8E1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F5CF-CF93-4DAF-BD96-40E45F1045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3C9C-F778-4FDD-AFDA-DBA4E41EFF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5C7-3261-446B-97A7-66B81D3BC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9A6-92A2-4447-A99D-805A93AD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949-E729-4169-AE90-803C22D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0038F-AEF0-47A4-874B-DCA051F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861A-74D7-433E-B402-281ED8F7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2FB8D-761C-450E-AABB-3915641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11784-1252-4DA8-A559-03B9CC44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38B17-AB71-45C3-B0C0-BD76094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BB91-C378-4535-8256-0A643DC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C3286-2AED-404F-9AA8-FB8158F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A42B1-8000-4F29-B5A8-1B3993F8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0A533-6FED-493F-8D21-03B6DE2A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081-1F52-4AC7-96B9-C4ED2507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C1F-0D9C-40EF-A939-148E40FD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851-454A-48E9-9B91-3B9730F3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E005-098E-4910-8F36-F300B19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7BC-DF6A-49FE-BA65-D6BA180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DCC-EE62-453A-8CCF-4108B4C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3B38-5C2F-40EB-AA96-CDFBCD2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0971-3469-4057-B31B-36B59725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D95-8ACC-44C0-B2FA-8DF05DE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966-968D-4517-83A3-C0C4524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A421-F9D4-4D90-B326-C98463E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8F6-176A-4D48-B2F9-6115BDD7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61E8-F7D8-4FF8-B8E6-14A9DE36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55A-81B6-446F-AD36-E3D507D4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B10E-3B94-4D87-AACE-145D27D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7990-F533-4470-BCBB-1BB61B1F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6C8E-11D3-4456-9791-7C9ADA0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FCA2-1764-4256-A162-B4C37B0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75FF-4FA5-486A-AEC9-4E05079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9B1A-8591-4685-8A3F-1B0070A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E1A-A3AC-4368-924A-29FD366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8A82-4DA7-48B9-B48F-7EB3262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6935-B594-4EDF-8BBD-2E92512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7AB1-7664-4C88-AF1C-358655B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0D9F-7509-443D-B940-41B3DE4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B44F-A0CF-4CB0-8B0D-48BF710E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C324-B3F6-4785-895F-70E9BA46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D565-4107-4666-A77F-4DFC584F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8DA7-81A4-4419-A847-0F20E40F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A0A1-F3F0-4B65-955F-554EC5FC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868E-3225-487A-8A3B-5A046562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503-4A68-493F-913B-C6C34226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37F6-EA6E-4D85-AB2B-11753A8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E851-8885-4403-B398-94AE6B41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62B0-A020-4BB2-9F1D-88DAB37D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7444-99FB-4762-9F26-C5A7E5E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0163-4D21-4906-9E34-8B06383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9EA4-AB81-4E95-9F80-97F8088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50E7-CAE0-484E-8F67-814A013C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7441-205A-4772-A791-6B75ACA5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5D1A-7D1E-45B9-9648-22A08D80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6294-D4D0-4546-B254-A0E0D7A7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7D1-3A06-4F66-A636-CF17E9B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1397-B437-41C3-864F-7C4284E6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D66AA-828C-475A-BAFE-3C39A6B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DEA5-7E23-4ECD-83C9-16D026B2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9195-D230-4722-9A94-B9130D4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9085-7EDE-45D5-AB35-41974B0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8666-F693-46F0-B325-35C0F84E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F826-8136-4C41-9772-08AC50C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C91E-B13B-4C25-B256-8E35B59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CF7C-56D7-4D24-AB71-5EC5442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B952-63CC-4DF8-81D3-47DBE990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637-1441-4640-833C-FEBE026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A052-A82F-4350-B351-098927F5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9719-73BF-4ECB-B32B-8F69D318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1B1F7-A9A4-4D86-8386-1399A65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C0DB-E482-49D7-BE4E-3877CFEA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F7F50-8F88-4961-A45E-65C43DE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A85C-AAA3-49DC-9AD4-6EECCBA3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4F77-9135-4DEB-8237-A8281B18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C4D7-D121-470F-86F5-B91BD728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54ED-B868-4612-B305-18E7770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194C-ECE0-4AFB-AC9D-C8BD84A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8F9-D414-4A93-A3A7-BC61FB8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728A-A264-4E70-82C9-5B5AD7C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FC03-452C-435B-A1BA-FDA6FC85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0DB05-F4A7-4857-918B-68485D83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5ECF-E843-4CEE-B3A4-370D8A65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280B9-17A3-441D-8FF6-D36DA3F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839FF-B7AA-425D-9D16-5D48B89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65F2-7A40-4A6A-9516-883B30B0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B2CE-9D20-43E1-AB94-E38A48D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B3ED0-415C-47A2-A394-1FFEDE22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8AEDB-CB3E-405D-8C24-D59CFF5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49B-BE50-401E-927E-A0D5DA2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F4A5E-C5B0-433C-92A2-B3ED7C0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CC7C-0A0F-4742-907E-0B9D195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017D5-234C-4A8C-A314-B59E6A1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59BC-0B69-47D2-9C75-0193DE57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F41A-2051-4693-ACF9-3A885DD1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30D5B-56BA-4696-9E7D-B733388B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4E44-14DF-4684-B578-7911EF9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6C77-58DB-4586-BEE4-627401E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893E-4A3C-4235-AB90-4B9417A9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6CD7-A744-4C9A-B58C-088E2C8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26F-0662-4958-8FC8-5553DBC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F5D8-3B3F-4E77-BEC7-4155422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480B-E6C0-410A-B6A9-4AF7CAFD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A2D2-46BA-40E7-BAC8-DF4556C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04FA-B2E1-4028-8568-31CE58B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1B2F-DC3F-4CE9-BC20-FD0BC3F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4B5B-7F59-4CAC-B822-B7FB8215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7DA32-84FB-429A-B1E5-176AFAE9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4E9C-C7E1-4392-80BA-E6724A48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68AFC-6388-4FDC-94E4-03F5F80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0341-F659-460C-B7F5-9F9526A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0895-00BB-490C-9552-CFC1800FB9C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F6E-1B43-41E5-8167-5F41AD2542C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746-2C80-49DD-89D7-8AF2C4206DD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49D8-EB60-41D4-9F96-8D171A62D76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18B6-E9E8-4E2D-B3D4-83457155685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6F2A-6008-46C1-88A1-6876002D104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E5A-7645-4279-B4D6-D5B1BA85DB56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E50-78AF-46F6-B339-3A787AF31BC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3BCF-628D-46B8-A06E-F8E6448A779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овая система оплаты труда педагогических работнико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5 февраля 2011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305280" y="990720"/>
            <a:ext cx="8076960" cy="5513760"/>
            <a:chOff x="305280" y="990720"/>
            <a:chExt cx="8076960" cy="5513760"/>
          </a:xfrm>
        </p:grpSpPr>
        <p:cxnSp>
          <p:nvCxnSpPr>
            <p:cNvPr id="406" name="_s1028"/>
            <p:cNvCxnSpPr/>
            <p:nvPr/>
          </p:nvCxnSpPr>
          <p:spPr>
            <a:xfrm flipV="1" rot="16200000">
              <a:off x="-498600" y="5143320"/>
              <a:ext cx="2364120" cy="304200"/>
            </a:xfrm>
            <a:prstGeom prst="bentConnector3">
              <a:avLst>
                <a:gd name="adj1" fmla="val 4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7" name="_s1029"/>
            <p:cNvCxnSpPr/>
            <p:nvPr/>
          </p:nvCxnSpPr>
          <p:spPr>
            <a:xfrm rot="10800000">
              <a:off x="532080" y="4113360"/>
              <a:ext cx="621000" cy="82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8" name="_s1030"/>
            <p:cNvCxnSpPr>
              <a:stCxn id="409" idx="0"/>
              <a:endCxn id="410" idx="2"/>
            </p:cNvCxnSpPr>
            <p:nvPr/>
          </p:nvCxnSpPr>
          <p:spPr>
            <a:xfrm flipV="1" rot="16200000">
              <a:off x="3178800" y="2339280"/>
              <a:ext cx="387720" cy="1641240"/>
            </a:xfrm>
            <a:prstGeom prst="bentConnector3">
              <a:avLst>
                <a:gd name="adj1" fmla="val 295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1" name="_s1031"/>
            <p:cNvCxnSpPr>
              <a:stCxn id="412" idx="0"/>
              <a:endCxn id="410" idx="2"/>
            </p:cNvCxnSpPr>
            <p:nvPr/>
          </p:nvCxnSpPr>
          <p:spPr>
            <a:xfrm flipH="1" flipV="1" rot="5400000">
              <a:off x="1800360" y="2601360"/>
              <a:ext cx="387720" cy="1117440"/>
            </a:xfrm>
            <a:prstGeom prst="bentConnector3">
              <a:avLst>
                <a:gd name="adj1" fmla="val 294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3" name="_s1032"/>
            <p:cNvCxnSpPr>
              <a:stCxn id="414" idx="0"/>
              <a:endCxn id="415" idx="2"/>
            </p:cNvCxnSpPr>
            <p:nvPr/>
          </p:nvCxnSpPr>
          <p:spPr>
            <a:xfrm flipV="1" rot="16200000">
              <a:off x="5704560" y="585720"/>
              <a:ext cx="200880" cy="2590200"/>
            </a:xfrm>
            <a:prstGeom prst="bentConnector3">
              <a:avLst>
                <a:gd name="adj1" fmla="val 49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1033"/>
            <p:cNvCxnSpPr>
              <a:stCxn id="410" idx="0"/>
              <a:endCxn id="415" idx="2"/>
            </p:cNvCxnSpPr>
            <p:nvPr/>
          </p:nvCxnSpPr>
          <p:spPr>
            <a:xfrm flipH="1" flipV="1" rot="5400000">
              <a:off x="3430800" y="901800"/>
              <a:ext cx="200880" cy="1958040"/>
            </a:xfrm>
            <a:prstGeom prst="bentConnector3">
              <a:avLst>
                <a:gd name="adj1" fmla="val 49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5" name="_s1034"/>
            <p:cNvSpPr/>
            <p:nvPr/>
          </p:nvSpPr>
          <p:spPr>
            <a:xfrm>
              <a:off x="3531600" y="990720"/>
              <a:ext cx="1957320" cy="790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dde9ec"/>
                  </a:solidFill>
                  <a:latin typeface="Arial"/>
                </a:rPr>
                <a:t>ФОТ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_s1035"/>
            <p:cNvSpPr/>
            <p:nvPr/>
          </p:nvSpPr>
          <p:spPr>
            <a:xfrm>
              <a:off x="989280" y="1981440"/>
              <a:ext cx="3124080" cy="98532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Тб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базовая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60-8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_s1036"/>
            <p:cNvSpPr/>
            <p:nvPr/>
          </p:nvSpPr>
          <p:spPr>
            <a:xfrm>
              <a:off x="5815440" y="1981440"/>
              <a:ext cx="2566800" cy="98532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Тст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стимулирующая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-4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_s1037"/>
            <p:cNvSpPr/>
            <p:nvPr/>
          </p:nvSpPr>
          <p:spPr>
            <a:xfrm>
              <a:off x="305280" y="3354120"/>
              <a:ext cx="2261160" cy="790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Т п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едагогические работник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_s1038"/>
            <p:cNvSpPr/>
            <p:nvPr/>
          </p:nvSpPr>
          <p:spPr>
            <a:xfrm>
              <a:off x="2971800" y="3354120"/>
              <a:ext cx="2439720" cy="790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Т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АУП, ВВП, ОП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_s1039"/>
            <p:cNvSpPr/>
            <p:nvPr/>
          </p:nvSpPr>
          <p:spPr>
            <a:xfrm>
              <a:off x="837720" y="4572720"/>
              <a:ext cx="1957320" cy="790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То общая част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_s1040"/>
            <p:cNvSpPr/>
            <p:nvPr/>
          </p:nvSpPr>
          <p:spPr>
            <a:xfrm>
              <a:off x="760680" y="5714280"/>
              <a:ext cx="1957320" cy="79020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Тсп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ециальная част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6731-CF52-485F-BABE-F2D8EBAB52D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685800" y="304920"/>
            <a:ext cx="8001000" cy="533160"/>
          </a:xfrm>
          <a:prstGeom prst="rect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ение фонда оплаты тр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AutoShape 27"/>
          <p:cNvSpPr/>
          <p:nvPr/>
        </p:nvSpPr>
        <p:spPr>
          <a:xfrm>
            <a:off x="228600" y="1066680"/>
            <a:ext cx="2438280" cy="685800"/>
          </a:xfrm>
          <a:prstGeom prst="wedgeRoundRectCallout">
            <a:avLst>
              <a:gd name="adj1" fmla="val 13930"/>
              <a:gd name="adj2" fmla="val 120138"/>
              <a:gd name="adj3" fmla="val 16667"/>
            </a:avLst>
          </a:prstGeom>
          <a:solidFill>
            <a:srgbClr val="000000"/>
          </a:solidFill>
          <a:ln w="936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Гарантированная часть, оплата за фа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AutoShape 28"/>
          <p:cNvSpPr/>
          <p:nvPr/>
        </p:nvSpPr>
        <p:spPr>
          <a:xfrm>
            <a:off x="6400800" y="990720"/>
            <a:ext cx="2438280" cy="685800"/>
          </a:xfrm>
          <a:prstGeom prst="wedgeRoundRectCallout">
            <a:avLst>
              <a:gd name="adj1" fmla="val 9763"/>
              <a:gd name="adj2" fmla="val 113194"/>
              <a:gd name="adj3" fmla="val 16667"/>
            </a:avLst>
          </a:prstGeom>
          <a:solidFill>
            <a:srgbClr val="000000"/>
          </a:solidFill>
          <a:ln w="936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de9ec"/>
                </a:solidFill>
                <a:latin typeface="Calibri"/>
              </a:rPr>
              <a:t>Оплата за ка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AutoShape 29"/>
          <p:cNvSpPr/>
          <p:nvPr/>
        </p:nvSpPr>
        <p:spPr>
          <a:xfrm>
            <a:off x="3962520" y="4648320"/>
            <a:ext cx="4038480" cy="609480"/>
          </a:xfrm>
          <a:prstGeom prst="wedgeRectCallout">
            <a:avLst>
              <a:gd name="adj1" fmla="val -78657"/>
              <a:gd name="adj2" fmla="val -20574"/>
            </a:avLst>
          </a:prstGeom>
          <a:solidFill>
            <a:srgbClr val="000000"/>
          </a:solidFill>
          <a:ln w="936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e9ec"/>
                </a:solidFill>
                <a:latin typeface="Calibri"/>
              </a:rPr>
              <a:t>Расчет ученико-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AutoShape 30"/>
          <p:cNvSpPr/>
          <p:nvPr/>
        </p:nvSpPr>
        <p:spPr>
          <a:xfrm>
            <a:off x="3962520" y="5486400"/>
            <a:ext cx="4114800" cy="990720"/>
          </a:xfrm>
          <a:prstGeom prst="wedgeRectCallout">
            <a:avLst>
              <a:gd name="adj1" fmla="val -80708"/>
              <a:gd name="adj2" fmla="val 5129"/>
            </a:avLst>
          </a:prstGeom>
          <a:solidFill>
            <a:srgbClr val="000000"/>
          </a:solidFill>
          <a:ln w="936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e9ec"/>
                </a:solidFill>
                <a:latin typeface="Calibri"/>
              </a:rPr>
              <a:t>Выплаты компенсационного характера, учет внеурочной деятельности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Единица измерения – стоимость ученико-часа</a:t>
            </a:r>
            <a:br>
              <a:rPr sz="2400"/>
            </a:b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 ученико-час - стоимость бюджетной образовательной услуги, включающей 1 расчетный час работы с 1 расчетным учеником в соответствии с учебным планом </a:t>
            </a:r>
            <a:endParaRPr b="0" lang="en-US" sz="1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AAC-C531-41BB-9C91-1A884ACD4A5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179280" y="1268280"/>
            <a:ext cx="8839440" cy="5105520"/>
          </a:xfrm>
          <a:prstGeom prst="verticalScroll">
            <a:avLst>
              <a:gd name="adj" fmla="val 4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То х 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п = ------------------------------------------------------------------------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а1 x в1 + а2 x в2 + а3 x в3 ... + а10 x в10 + а11 x в11) x 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недель в год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учебных недель в учебном году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учащихся в первых класс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учащихся во вторых класс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учащихся в третьих класс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1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оличество учащихся в одиннадцатых класс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годовое количество часов по учебному плану в первом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годовое количество часов по учебному плану во втором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годовое количество часов по учебному плану в третьем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1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годовое количество часов по учебному плану в одиннадцатом класс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вышающие коэффициен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) за сложность и (или) приоритетность предмета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7365-CBE5-48AB-B68E-E2DC59DCBA3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33520" y="1447920"/>
            <a:ext cx="7848360" cy="2590560"/>
          </a:xfrm>
          <a:prstGeom prst="rect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dde9e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К = 1,1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русский язык, литература, иностранный язы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математика, 1 класс начальной школ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dde9e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К = 1,1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история, обществознание, географи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иология, информатика, физика, хими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- 4 классы начальной школы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3)   К = 1,0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право, экономика, технолог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4)   К = 1,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астрономия, физическое воспита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зительное искусство, музыка, черче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ы безопасности жизнедеятель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457200" y="43434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за квалификационную категорию педаг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609480" y="4952880"/>
            <a:ext cx="7772400" cy="1447920"/>
          </a:xfrm>
          <a:prstGeom prst="rect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А = 1,1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(высшая категор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А = 1,1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(первая категор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e9ec"/>
                </a:solidFill>
                <a:latin typeface="Calibri"/>
              </a:rPr>
              <a:t>А = 1,0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вторая категор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ак рассчитать должностной оклад учителя?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7EB2-B006-4752-B0D6-A1458935921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количество учеников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х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количество часов в мес.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х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оимость ученико-ча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 х (коэффиент за сложность предмета) х (коэффициент за категор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 =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 (доплаты за иные виды деятельности</a:t>
            </a:r>
            <a:r>
              <a:rPr b="0" i="1" lang="ru-RU" sz="2800" spc="-1" strike="noStrike">
                <a:solidFill>
                  <a:srgbClr val="dde9ec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dde9ec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9:51:07Z</dcterms:created>
  <dc:creator>User</dc:creator>
  <dc:description/>
  <dc:language>en-US</dc:language>
  <cp:lastModifiedBy>al011568</cp:lastModifiedBy>
  <dcterms:modified xsi:type="dcterms:W3CDTF">2011-02-16T12:44:58Z</dcterms:modified>
  <cp:revision>5</cp:revision>
  <dc:subject/>
  <dc:title>Слайд 1</dc:title>
</cp:coreProperties>
</file>